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F8F-FABE-4756-8957-DE8FA5BB8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862E-9672-43CA-BEF0-08DC32809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5429-6A19-4E96-802D-4EC5D7738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996D-5F51-4602-8584-D4A33C2A4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658-C885-4104-A2F7-C9DF5BA0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3FE-7FF5-4F8B-87D8-C60AED1B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BE2-6955-41D4-B16F-4064A44B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EEA-8077-4CB0-A3C3-65868C48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19B-0E08-47EC-A611-E24A226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360-84A9-45EF-AEAA-E0291D0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B42-8858-46A3-969D-3B1A64A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BCB-CF71-4734-ABBB-29F77A3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F8C-DEFD-4128-B93D-3A61C672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286-EB45-4535-A686-D33C1F8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EC5-02FF-4C5E-9703-793C249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B2F-F7AF-431B-955C-D1FE2FE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2C3-C840-4752-A641-B8AFD4FED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&amp;I 264:Teacher as Writer and Critical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uesday, January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Literacy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520" y="1204920"/>
            <a:ext cx="71629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04920" y="17524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Read a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udents are given time to engage in  uninterrupted meaningful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Books they can 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room is filled with a variety of texts  of a variet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 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re is choice in reading and students are taught how to select appropriate read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Read Flu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ds Need to Develop Thoughtful Literacy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s and connections, meaningful engagement with texts, opportunities to take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52320" y="9903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 Behaviors of Read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18960" y="243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reading attention and set purpose in some way (Predicting strateg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organize information during and after reading (Categorizing, remember what to keep and what to throw a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aborate on ideas and clarify information (Able to answer questions of others or ask questions themsel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monitor and Self-correct (Understand when they don’t understa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davidsonnews.net/wp-content/uploads/2008/05/rockin-readers-1.jpg"/>
          <p:cNvPicPr/>
          <p:nvPr/>
        </p:nvPicPr>
        <p:blipFill>
          <a:blip r:embed="rId1"/>
          <a:stretch/>
        </p:blipFill>
        <p:spPr>
          <a:xfrm>
            <a:off x="0" y="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ea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37920" y="3123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is thinking. Readers are aware of what they are thinking as they are reading and use strategies interchangeably as they r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eachers model the thinking process through “Think Alouds” to model the thinking that takes place while rea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calvin-on-reading"/>
          <p:cNvPicPr/>
          <p:nvPr/>
        </p:nvPicPr>
        <p:blipFill>
          <a:blip r:embed="rId1"/>
          <a:stretch/>
        </p:blipFill>
        <p:spPr>
          <a:xfrm>
            <a:off x="144360" y="46080"/>
            <a:ext cx="6438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013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294920"/>
            <a:ext cx="7467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itical literacy is the ability to read texts in an active, reflective manner in order to better understand power, inequality, and injustice in human relationsh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udents’ cultural knowledge and multimedia practices should be used (Comber, 2001, Vasquez, 2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en we read we bring with us our past experiences  and understandings about how the world works. (Vasquez,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371240"/>
            <a:ext cx="7925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ability to read other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. the possibility of understanding our own and others’ experiences from that many more vantage point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Valuing, exploring, and appreciating multiple perspectives  in the classroom.”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hnston, 1997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literacy is social: disrupting the status quo, questioning, studying taken-for-granted assumptions, acting for change. It is reading the world and taking ac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Van Sluys,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we teach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texts- incorporate literature with “real-life”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characters’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connections (Text to Self, Text to World, Text to Tex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hildren’s literature to focus on soci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children to take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e a variety of texts m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Geographic K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kids.nationalgeographic.com/kids/animals/creaturefeature/harp-seal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ds 4 Se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ids4seals.org/index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54061"/>
                </a:solidFill>
                <a:latin typeface="Calibri"/>
              </a:rPr>
              <a:t>...</a:t>
            </a:r>
            <a:r>
              <a:rPr b="1" i="1" lang="en-US" sz="2800" spc="-1" strike="noStrike">
                <a:solidFill>
                  <a:srgbClr val="254061"/>
                </a:solidFill>
                <a:latin typeface="Calibri"/>
              </a:rPr>
              <a:t>learning is inherently social and people “learn as they do” while being engaged in meaningful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roups of 3 discus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unity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of multimodal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 of lit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do the practices of this classroom illustrate Critical Litera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is the value of this type of teaching? Drawbac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this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Example…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Hurricane San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hollywoodreporter.com/sites/default/files/2012/10/lady_liberty_fake_hurricane_a_p.jpg"/>
          <p:cNvPicPr/>
          <p:nvPr/>
        </p:nvPicPr>
        <p:blipFill>
          <a:blip r:embed="rId1"/>
          <a:stretch/>
        </p:blipFill>
        <p:spPr>
          <a:xfrm>
            <a:off x="380880" y="457200"/>
            <a:ext cx="28958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sandrarose.com/images16/nyc-cabs-flood.jpg?42e305"/>
          <p:cNvPicPr/>
          <p:nvPr/>
        </p:nvPicPr>
        <p:blipFill>
          <a:blip r:embed="rId2"/>
          <a:stretch/>
        </p:blipFill>
        <p:spPr>
          <a:xfrm>
            <a:off x="4572000" y="1905120"/>
            <a:ext cx="3714840" cy="244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pixel.nymag.com/imgs/daily/intel/2012/10/30/30-flooding-battery-tunnel.o.jpg/a_560x375.jpg"/>
          <p:cNvPicPr/>
          <p:nvPr/>
        </p:nvPicPr>
        <p:blipFill>
          <a:blip r:embed="rId3"/>
          <a:stretch/>
        </p:blipFill>
        <p:spPr>
          <a:xfrm>
            <a:off x="68580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Teacher as 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Minilesson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re do writers get id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ritical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how Critical Literacy can be implemented in th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modal Text 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wo Bobbies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rby Larson and Mary Neth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Ninth Ward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well Parker 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ea, the Storm, and the Mangrove Tangle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nne Cher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rricanes!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l Gibb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gerous Planet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yn Barn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urricane Katrina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Benoit, Scho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rricane Katrina Day by Day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tional Geograph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youtube.com/watch?v=HbJaMWw4-2Q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m Playlist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newsfeed.time.com/2011/08/27/blame-it-on-irene-times-official-hurricane-playlist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Circles- Look over materials posted on the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 Guidelines f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terature Focus Un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oughts about Writing </a:t>
            </a:r>
            <a:br>
              <a:rPr sz="31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Lucy Caulkins, Katie Ray Wood, Donald Graves and Carl Anderson)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rs need a sense of purpose. Make plans for what they will do- set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 writing well, we should know at least 5 details about the lives and interests of each of ou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like a writer- notice how things are wri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things that happen everyday make wonderful writing topics- jumping on the bed your brother throwing his food on your plate, your dog getting into the garbage can. (Mentor Text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ight Shift Dadd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elli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Paperboy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av Pilk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ch conversations cultivate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goal is to offer children the opportunity to bring their lives to school and put their lives on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v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bl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gs to 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ing is not linear, nor should it be 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k about how to integrate multiple sign systems into the process (i.e., drama, music, movement/dance, a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6a00e54efa53e088330133f0eab2a9970b-800wi"/>
          <p:cNvPicPr/>
          <p:nvPr/>
        </p:nvPicPr>
        <p:blipFill>
          <a:blip r:embed="rId1"/>
          <a:stretch/>
        </p:blipFill>
        <p:spPr>
          <a:xfrm>
            <a:off x="0" y="0"/>
            <a:ext cx="2514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2880" y="228600"/>
            <a:ext cx="6261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Workshop Approach to Wr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1752480"/>
            <a:ext cx="67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writing; students writing on a variety of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orking at different stages of the writ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red revising and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ing center with material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encing with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s’ C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ANd9GcS15J6T8pPQ6E9C5Uu8l2_E9g_KyOgIQa1JYracTkylT4fUuitvcA"/>
          <p:cNvPicPr/>
          <p:nvPr/>
        </p:nvPicPr>
        <p:blipFill>
          <a:blip r:embed="rId1"/>
          <a:stretch/>
        </p:blipFill>
        <p:spPr>
          <a:xfrm>
            <a:off x="228600" y="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RiD6MDWs1E4e8HWc6HjCkBESV8qPkTKGCVu8V4_RBgbITWJDTEXQ"/>
          <p:cNvPicPr/>
          <p:nvPr/>
        </p:nvPicPr>
        <p:blipFill>
          <a:blip r:embed="rId2"/>
          <a:stretch/>
        </p:blipFill>
        <p:spPr>
          <a:xfrm>
            <a:off x="6781680" y="5087880"/>
            <a:ext cx="2362320" cy="17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script%20rehearsal"/>
          <p:cNvPicPr/>
          <p:nvPr/>
        </p:nvPicPr>
        <p:blipFill>
          <a:blip r:embed="rId3"/>
          <a:stretch/>
        </p:blipFill>
        <p:spPr>
          <a:xfrm>
            <a:off x="0" y="3429000"/>
            <a:ext cx="233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chers as Wri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If you are not a writer, you will not understand the difficulties of writing.  If you are not a writer, you will not know the fears and hopes of the writers you teach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” – Mem F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this look li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 the video (#2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acher as Writer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ink of the following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se teachers model wri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think they had to do with their students to make the environment a safe place to sha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Use your notebook to breathe in the world around you. You can write about”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amazes/surprises/anger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at you wonder ab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at you not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"Seed Ideas" or "Triggers" to generate stories or po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Small details that intrigue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Snatches of talk you overh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Mem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Photos, articles, ticket stubs or other artifa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Your own sketches, drawings or dood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Quotes or inspiring passages from books or po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lph Fletcher, http://www.ralphfletcher.com/tips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095720" y="2724120"/>
            <a:ext cx="9525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4" descr="ANd9GcResscoI2OIrm1YwDWDo6I8CaTMF3Rn1_JMhx3JSRzcHZgiK2Lf"/>
          <p:cNvPicPr/>
          <p:nvPr/>
        </p:nvPicPr>
        <p:blipFill>
          <a:blip r:embed="rId1"/>
          <a:stretch/>
        </p:blipFill>
        <p:spPr>
          <a:xfrm>
            <a:off x="7068960" y="3768840"/>
            <a:ext cx="20750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219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 Texts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Best Story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Eileen Spine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37 Things I Love (In No Particular Order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y Kekla Mag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d1ldy8a769gy68.cloudfront.net/180/978/080/509/465/7/978-0-8050-9465-7.jpg"/>
          <p:cNvPicPr/>
          <p:nvPr/>
        </p:nvPicPr>
        <p:blipFill>
          <a:blip r:embed="rId1"/>
          <a:stretch/>
        </p:blipFill>
        <p:spPr>
          <a:xfrm>
            <a:off x="1523880" y="3429000"/>
            <a:ext cx="2040120" cy="290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ksbillmartinaward.wikispaces.com/file/view/Best_Story.jpg/91899549/Best_Story.jpg"/>
          <p:cNvPicPr/>
          <p:nvPr/>
        </p:nvPicPr>
        <p:blipFill>
          <a:blip r:embed="rId2"/>
          <a:stretch/>
        </p:blipFill>
        <p:spPr>
          <a:xfrm>
            <a:off x="4952880" y="3276720"/>
            <a:ext cx="24987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rt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Writers write from their hearts about what we deeply care about.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(Georgia Heard, </a:t>
            </a:r>
            <a:r>
              <a:rPr b="0" i="1" lang="en-US" sz="2800" spc="-1" strike="noStrike">
                <a:solidFill>
                  <a:srgbClr val="008000"/>
                </a:solidFill>
                <a:latin typeface="Calibri"/>
              </a:rPr>
              <a:t>Awakening the Heart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id the authors in the books deeply care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s affected your hea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people are or have been important t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happy or sad memories do you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events are important in your lif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objects are important t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eart-map1"/>
          <p:cNvPicPr/>
          <p:nvPr/>
        </p:nvPicPr>
        <p:blipFill>
          <a:blip r:embed="rId1"/>
          <a:stretch/>
        </p:blipFill>
        <p:spPr>
          <a:xfrm>
            <a:off x="6324480" y="4876920"/>
            <a:ext cx="2283120" cy="171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essons%5C8000%5C8377%5Cheart%20maps%20012"/>
          <p:cNvPicPr/>
          <p:nvPr/>
        </p:nvPicPr>
        <p:blipFill>
          <a:blip r:embed="rId2"/>
          <a:stretch/>
        </p:blipFill>
        <p:spPr>
          <a:xfrm>
            <a:off x="380880" y="0"/>
            <a:ext cx="2359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7:38:53Z</dcterms:created>
  <dc:creator>College of Education</dc:creator>
  <dc:description/>
  <dc:language>en-US</dc:language>
  <cp:lastModifiedBy>College of Education</cp:lastModifiedBy>
  <dcterms:modified xsi:type="dcterms:W3CDTF">2013-01-22T14:46:04Z</dcterms:modified>
  <cp:revision>11</cp:revision>
  <dc:subject/>
  <dc:title>C&amp;I 264: </dc:title>
</cp:coreProperties>
</file>